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475D-6481-4EB9-B623-687B3DB4B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0BF9-C755-4B26-B446-07EECC9F22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B650-6957-4B1A-AF09-6E1B28BB35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B2C1-F911-48D6-BFF8-04351EDA01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2ED6-AEA3-48FE-80FA-7BDE3356C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D99F-B8BA-4226-947A-644BEFE6BF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E784-BF1A-4E30-B39E-8F8495DB6B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A1E1-A2E1-496D-BFFA-6E4E4B44E3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9810-F613-4C08-815B-63FACAA8A2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51D9-7236-466E-BC24-0E0247D5BC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00A0-73EC-4557-845C-69926200BC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974D-EFE2-44CF-918B-3DEF660F43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4133-DCD6-4877-BB7D-DCB33B3547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F042-302F-42F2-906C-0CA7CFB329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BD6-8C27-4921-B350-215C15616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0A08-F8EE-47D0-BB54-FDB5A65388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9E2-758A-4C66-A25D-C2A218B6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268-AAB9-4FD1-99A7-905FC24C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F46-E7FB-4A09-BB98-158C59F5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DFB-CE66-4EE3-A5F9-DEFAF5A8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B249-CBE2-4D03-B48B-FB60EB35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D764-5E9A-4BAE-983A-A1863478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6EEF-1180-4BC9-AAEF-26EA91AD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DE28-52D1-488F-A524-D8A55A2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7E20-DF47-4C9A-B105-AA4F0C9F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1E26-6FAC-4737-BFD3-364255FD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CEBB-4F1E-46A0-B387-6A41F73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C16-9481-40AA-9C96-5CDD7FF8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E259-C069-4A2C-ADDB-B1210CFC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9D57-2AF4-46BC-8F97-F34E6757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535D-8E5F-4292-829E-C4453FFE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34E0-47E9-42BC-BE73-7B5AEB6D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39AF-204B-4106-B7AD-890A19DF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71A-494E-4298-ACE0-04BA5887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E90-B6A6-489A-B45E-B796E949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A28-84BB-4EC7-A0DF-0118CFA0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0A0-A8BF-49AC-AD43-867CED21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1F4-3BCE-42A5-9402-1188061E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C12-2E08-475B-BB26-3ED2ABF3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F00-E442-43A0-A605-9D11639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8FD0-7D02-4D24-9840-DE84BF4E5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3825-2612-456C-B5CC-96214ED1C9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 1 REVIEW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PEN NOTE QUIZ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YOUR NOTES &amp; A PIECE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QUESTIONS –MULTIPLE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Government where citizens choose a smaller group to govern on their behalf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irect democrac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presentative democra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autocratic dictato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oligarchic dictato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0. Relating to races or groups of people who share common traits and custom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ethnic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e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iorit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onst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419112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1. In North Korea, Kim Jong Il is better known as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Great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ear Lea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ivine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Benevolent 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479840" y="-228600"/>
            <a:ext cx="47880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853452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2. Which of the following terms is most closely associated with authoritarianism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irect democrac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presentative democra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onstitutional mon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totalitarian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863280"/>
            <a:ext cx="853452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3. The study of the rights and duties of citizen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geograph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ivics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histor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soci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534520" cy="21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4. Which of the following is a step in the naturalization proces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0" indent="-70560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filing a declaration of intention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05600" indent="-70560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applying for a driver’s lic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05600" indent="-70560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gistering to vo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05600" indent="-70560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joining a political par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05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853452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5. Due to its extreme isolation from the rest of the world, North Korea is known as th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hermit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opaganda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eaceful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osperous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ere the majority of people earn their living by providing a service rather than manufacturing a produc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manufacturing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B.  agricultural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.  service econom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.  mixed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A representative democracy where citizens choose their lawmaker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public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g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. commonwealth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. nation-st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A system in which government control extends to almost all aspects of people’s liv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emocrac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totalitari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onstitutional mon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publican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A person who moves permanently to a new countr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immigrant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tour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vacationer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diplo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201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To gain or acquir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enforce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onst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obt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prio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201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A rule of conduct or belief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ommunity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onst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principle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de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The course of action the government takes in response to an issue or problem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ublic opin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ublic go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ublic agenda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ublic poli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8. Community member who owes loyalty to the government and is entitled to protection from i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alien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immigr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itiz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tour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01T13:27:41Z</dcterms:modified>
  <cp:revision>114</cp:revision>
  <dc:subject/>
  <dc:title>D/O: TO EXPLAIN AND IDENTIFY PROBLEMS OF ECONOMICS</dc:title>
</cp:coreProperties>
</file>